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2902-13A2-4704-BE49-2AC57FA38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8F09-F1DB-4E29-9B6E-E5CB4C222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2089-98DA-4BD6-A476-30561DC25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DCA4-F588-4EE5-ABCC-CFB9AE588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8613-2F34-40DA-808E-7384D1350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E4CA-DB13-4CEF-959B-A1C53D2DD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2768-616C-4F9F-89E1-059FCABD7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A378-96CD-4916-91E8-9E91DFDC6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7693-EE87-42CA-90D9-96F8C98E1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A926-A901-497A-A469-2BA874F80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E19E-78DF-4ABF-9562-74F558105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B1BC-7617-4D02-B8CF-CEF879245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FB92-7245-4951-83FA-6AD08F8579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44B-4401-4CD9-AF54-6E3BFD4725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FC3D-BA46-4E83-BB9D-4B7B46D2C3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A68-4979-4BA0-BCCA-DE97264F75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BA08-5316-4A5D-827A-3BF97E7F7C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FCB8-57FF-45EB-9E9F-6C80A2F57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rystal Chilvers</cp:lastModifiedBy>
  <dcterms:modified xsi:type="dcterms:W3CDTF">2011-07-27T14:57:02Z</dcterms:modified>
  <cp:revision>5</cp:revision>
  <dc:subject/>
  <dc:title>&lt;Title&gt;</dc:title>
</cp:coreProperties>
</file>